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FE959B-B701-4383-90F5-8C8AED5134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E1467A-B6E1-4292-B84B-EF1386E8DB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7F73-174F-48E7-ABAE-B863DEC90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723240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55800" y="3841200"/>
            <a:ext cx="723240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862E-CF5F-49FF-9433-9CE263A40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5580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164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699C-9160-4789-AAA7-EF48E88D4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00920" y="159984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46400" y="159984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55800" y="384120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00920" y="384120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46400" y="384120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654D-FEF0-42D7-B2ED-0AD32CF20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DD0D2-923B-4FD1-A88C-CAA20AE4A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28BB6-6170-45CF-B00B-5F37D31C1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8EB79-6996-4A9A-B830-FE04CE31B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846E3-8E76-41E0-8679-D3221300E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243F7-B373-4A16-81AE-A699B27B4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79040" y="8856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F7FB4-B513-4A7C-89CE-2816DCAB1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5580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98B29-D243-4CAA-8530-F9F2972B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3977-C31F-4EA6-8C7B-7C56B3ACD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164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7DF90-8337-43C2-8D85-826085BB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55800" y="3841200"/>
            <a:ext cx="723240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0AA32-7E0D-49E6-8A48-F6CE5B11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723240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55800" y="3841200"/>
            <a:ext cx="723240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5FBBE-90D0-4200-98FD-FBEF7833E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5580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164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6A35D-AFD4-4A81-A81A-DC6823EF5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00920" y="159984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46400" y="159984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55800" y="384120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00920" y="384120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46400" y="384120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F845A-14D5-424F-B7A8-B8EEC3E21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7B706-F555-4986-897A-2462F3438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FD200-C828-4676-B847-0ED59621A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19FDA-F9C8-4DD9-B112-1A2D44965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F7E69-EAC6-4967-9D9D-16BCDA4F2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C96C4-72FC-4109-B041-4C0BF930A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00F0-CBBE-4C7A-8B13-4D49EDAE6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779040" y="8856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3F546-03D5-4D56-86F5-250D12AEA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95580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1BB30-1E31-4E7D-ACE1-32165244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164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36982-D171-4D1D-B6CF-68D96560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55800" y="3841200"/>
            <a:ext cx="723240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F3715-A51D-4D42-8577-F5F91219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723240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955800" y="3841200"/>
            <a:ext cx="723240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DEE03-F2D6-4D75-88C1-F39C74D6A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5580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164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B31C8-7D90-4837-9C78-989ABE69F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400920" y="159984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846400" y="159984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955800" y="384120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400920" y="384120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846400" y="384120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A7439-EAEA-44F0-BD7B-EDFA41AE7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1AC21-5489-436A-AE8B-A4FB900F7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5601B-7FFF-4B47-A136-2D5BFFD5A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890FC-9511-4696-BC29-823D78EC4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989D-D223-4E32-AA4E-7A1D76371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180AD-5C84-4320-8650-8599EE065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93641-56C6-4042-BBB6-3E1CF85A6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779040" y="8856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EF435-0255-44A2-9296-E4BC679F8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95580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DC299-6BE1-4FC8-BF6B-CE9D79A5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164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2FF71-C6D8-40EA-96F6-BBC6F86C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955800" y="3841200"/>
            <a:ext cx="723240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26421-EEE9-4D47-8FB3-CB0D82F2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723240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955800" y="3841200"/>
            <a:ext cx="723240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740B5-447A-4287-A6C3-9118873C1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95580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164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5C472-9E39-445F-8BBD-3C76A1DBC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400920" y="159984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846400" y="159984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955800" y="384120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400920" y="384120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846400" y="384120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3038E-1B70-423F-9317-51EB13C27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F0A08-FB51-414A-AC85-A36E46EA1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CBC4-C9CC-4711-9708-21A42D6AC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2B217-A574-4746-9A4C-4AA388373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B50D1-CD5B-4C21-B960-470CBBD4F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5C7D7-A1CD-447E-B493-43F1E6F76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71EF0-6D47-4685-9E7F-AC4CC858E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779040" y="8856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ADB8E-D6BD-4FED-AC7C-7AC6B8C3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5580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4C4EF-AFC1-49EF-B9EA-9DE4DA73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164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BF30D-E588-4143-8774-73D5D36F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55800" y="3841200"/>
            <a:ext cx="723240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184BC-E136-4CDE-A289-63A193D3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723240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55800" y="3841200"/>
            <a:ext cx="723240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6E5DD-09D8-4287-BFC8-0FF84846E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5580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164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2436B-2F17-4318-98D8-0F88AFCD4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79040" y="8856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F060-3F99-49F9-9EC7-70E61A6C2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400920" y="159984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846400" y="159984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55800" y="384120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400920" y="384120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846400" y="384120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94AB7-C14F-4E2D-83A0-02E37ED54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44364-1CE7-4624-8CD7-98ED92B33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EC563-56C2-4262-95D8-8A2FDCFFD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ADE6A-9308-4259-A0EE-4613D6FEF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8AF95-FB4D-432F-BE4C-36B040F37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84243-5503-4787-B666-9E7B889F8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779040" y="8856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195E2-B60F-4D45-BA50-CA4C61B17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95580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DE24D-2CF3-4D2C-AE05-D62F08B4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164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77149-97EA-4D01-9B33-D0CE4E77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955800" y="3841200"/>
            <a:ext cx="723240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3AF4F-76E1-4B54-BDAC-13400221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5580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9318-DF50-4D9A-BB01-9FAC309D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723240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955800" y="3841200"/>
            <a:ext cx="723240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8768B-67F2-4334-977B-5A9AC4828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95580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164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F6D1E-78B8-4B4A-BFBE-2DB879F37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400920" y="159984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846400" y="159984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955800" y="384120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400920" y="384120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846400" y="384120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AD62A-2155-4303-BAD1-997E74812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300AF-3BE9-49A8-82DB-D52C28EA2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042ED-AFD9-42B6-AA64-E7E136867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17625-3A54-4568-85B6-339E165BB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48CD1-82D7-4BEC-9721-A265E3391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3A443-5DBD-4744-9AB7-7BE5E1E62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779040" y="8856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E1E951-FE12-481B-9046-178412DF1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95580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8CC94-986B-4D21-B94B-3C0BF2EA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164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BAE8-AC45-40F8-9899-D41F4680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164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04EA0-05B6-4690-82AC-F7889853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955800" y="3841200"/>
            <a:ext cx="723240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3BEAE-7BEE-4AC2-A120-A769AD72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723240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955800" y="3841200"/>
            <a:ext cx="723240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24211D-BFF1-43A4-8495-A2A38D0A2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95580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164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940163-5394-441F-8D0A-64581290D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400920" y="159984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846400" y="159984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955800" y="384120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400920" y="384120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846400" y="384120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25907-68E0-4795-8948-D8A48FA7F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7D8E14-9751-49BB-AD54-77C6E53F6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FA0E42-5589-4F9A-9CF2-AB756BE72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298B3F-E049-4A57-937E-64C43E600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A68E78-1144-4315-8898-302658389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1C32A9-B435-4548-88AF-6DC6185B7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55800" y="3841200"/>
            <a:ext cx="723240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2313-DF6A-4EEF-9742-6D530772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779040" y="8856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4CF955-01CA-41AE-AE03-5722D8E4B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5580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A78401-B0D3-40E3-A78E-D6668854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164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77FB36-DE1E-4976-88BC-1E497C6B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55800" y="3841200"/>
            <a:ext cx="723240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3FB858-869E-42DE-9736-14824BD3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723240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955800" y="3841200"/>
            <a:ext cx="723240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390701-B865-4B89-8E3D-926FE7C05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5580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164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7468DD-B0FE-41A2-87CE-98BC6E956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400920" y="159984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846400" y="159984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955800" y="384120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400920" y="384120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846400" y="384120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A7D577-E164-40E0-AB6D-F3152612B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b31e"/>
            </a:gs>
            <a:gs pos="100000">
              <a:srgbClr val="d1620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overlayText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9144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3716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8288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4" marL="22860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5" marL="2286000" indent="-457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6" marL="2286000" indent="-457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486400" y="617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57200" y="617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305240" y="617220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200176-003B-4C8B-B27A-891D0B4459E3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b31e"/>
            </a:gs>
            <a:gs pos="100000">
              <a:srgbClr val="d1620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overlayTitl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9144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3716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8288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4" marL="22860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5" marL="2286000" indent="-457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6" marL="2286000" indent="-457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486400" y="617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57200" y="617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4305240" y="617220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890822-5EC5-49A2-9BD8-19C2A9351392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b31e"/>
            </a:gs>
            <a:gs pos="100000">
              <a:srgbClr val="d1620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overlayText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9144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3716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8288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4" marL="22860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5" marL="2286000" indent="-457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6" marL="2286000" indent="-457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5486400" y="617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457200" y="617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4305240" y="617220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425DB3-7E87-4980-9E91-5689E13CEB64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b31e"/>
            </a:gs>
            <a:gs pos="100000">
              <a:srgbClr val="d1620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7" descr="overlayBlank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9144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3716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8288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4" marL="22860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5" marL="2286000" indent="-457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6" marL="2286000" indent="-457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5486400" y="617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457200" y="617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4305240" y="617220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BECDD1-E9BB-4AE5-A076-8E0E53CA0365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b31e"/>
            </a:gs>
            <a:gs pos="100000">
              <a:srgbClr val="d1620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7" descr="overlayBlank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9144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3716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8288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4" marL="22860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5" marL="2286000" indent="-457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6" marL="2286000" indent="-457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5486400" y="617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457200" y="617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4305240" y="617220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BFC987-17E3-4BA1-8C9D-AA77AAEA4C60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b31e"/>
            </a:gs>
            <a:gs pos="100000">
              <a:srgbClr val="d1620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7" descr="overlayBlank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9144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3716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8288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4" marL="22860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5" marL="2286000" indent="-457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6" marL="2286000" indent="-457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486400" y="617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457200" y="617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4305240" y="617220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87BAE6-CAD3-4FC2-B5F6-24325CE51EB1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b31e"/>
            </a:gs>
            <a:gs pos="100000">
              <a:srgbClr val="d1620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7" descr="overlayBlank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9144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3716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8288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4" marL="22860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5" marL="2286000" indent="-457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6" marL="2286000" indent="-457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5486400" y="617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457200" y="617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4305240" y="617220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27B1AF-2F6B-4BB6-B087-B4E8C712F0C7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b31e"/>
            </a:gs>
            <a:gs pos="100000">
              <a:srgbClr val="d1620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7" descr="overlayVertical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9144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3716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8288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4" marL="22860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5" marL="2286000" indent="-457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6" marL="2286000" indent="-457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5486400" y="617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457200" y="617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4305240" y="617220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874591-AB8F-4940-BED3-052DAD737C86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79040" y="1596960"/>
            <a:ext cx="7583400" cy="167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Module 2</a:t>
            </a:r>
            <a:endParaRPr b="1" lang="en-US" sz="5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779040" y="3276720"/>
            <a:ext cx="7583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xit Ticket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380880" y="5797440"/>
            <a:ext cx="850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Eureka Math is licensed by Great Minds under an Attribution-NonCommercial-ShareAlike 4.0 International license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Lesson 9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olve each problem. Show that the placement of the decimal is correct through either estimation or fraction calculation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8" name="Picture 3" descr="Screen Shot 2016-06-21 at 2.21.38 PM.png"/>
          <p:cNvPicPr/>
          <p:nvPr/>
        </p:nvPicPr>
        <p:blipFill>
          <a:blip r:embed="rId1"/>
          <a:stretch/>
        </p:blipFill>
        <p:spPr>
          <a:xfrm>
            <a:off x="2381400" y="3006720"/>
            <a:ext cx="400032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Lesson 10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omplete the problem using partial product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81" name="Picture 3" descr="Screen Shot 2016-06-21 at 2.23.08 PM.png"/>
          <p:cNvPicPr/>
          <p:nvPr/>
        </p:nvPicPr>
        <p:blipFill>
          <a:blip r:embed="rId1"/>
          <a:stretch/>
        </p:blipFill>
        <p:spPr>
          <a:xfrm>
            <a:off x="2946240" y="2840040"/>
            <a:ext cx="232596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Lesson 11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Use estimation or fraction multiplication to determine if your answer is reasonable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1. Calculate the product. 78.93 × 32.45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2. Paint costs $29.95 per gallon. Nikki needs 12.25 gallons to complete a painting project. How much will Nikki spend on paint? Remember to round to the nearest penny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Lesson 12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Round to estimate the quotient. Then, compute the quotient using a calculator, and compare the estimation to the quotient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1. 4,732 ÷ 13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2. 22,752 ÷ 16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Lesson 13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Divide using the division algorithm: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392,196 ÷ 87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Lesson 14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stimate quotients. Convert decimal division expressions to fractional division expressions to create whole number divisors. Compute the quotient using the division algorithm. Check your work with a calculator and your estimate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1. Lisa purchased almonds for $3.50 per pound. She spent a total of $24.50. How many pounds of almonds did she purchase?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2. Divide: 125.01÷5.4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Lesson 15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valuate the expression using mental math techniques and the division algorithm. Explain your reasoning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18.75 ÷ 2.5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Lesson 16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Determine whether each sum or product is even or odd. Explain your reasoning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56,426 + 17,895  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317,362 × 129,324  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10,481 + 4,569  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32,457 × 12,781  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how or explain why 12+13+14+15+16 results in an even sum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Lesson 17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1. Is 26,341 divisible by 3? If it is divisible, write the number as the product of 3 and another factor. If not, explain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2. Is 8,397 divisible by 9? If it is divisible, write the number as the product of 9 and another factor. If not, explain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3. Explain why 186,426 is divisible by both 3 and 9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Lesson 18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652320" y="969480"/>
            <a:ext cx="79740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nd the LCM and GCF of 12 and 15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Write two numbers, neither of which is 8, whose GCF is 8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Write two numbers, neither of which is 28, whose LCM is 28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Rate each of the stations you visited today. Use this scale: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3—Easy—I’ve got it; I don’t need any help. 2—Medium—I need more practice, but I understand some of it.            1—Hard—I’m not getting this yet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omplete the following chart: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98" name="Picture 3" descr="Screen Shot 2016-06-21 at 2.32.28 PM.png"/>
          <p:cNvPicPr/>
          <p:nvPr/>
        </p:nvPicPr>
        <p:blipFill>
          <a:blip r:embed="rId1"/>
          <a:stretch/>
        </p:blipFill>
        <p:spPr>
          <a:xfrm>
            <a:off x="779400" y="4254480"/>
            <a:ext cx="751356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Lesson 1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rite an equivalent multiplication expression. Then, find the quotient in its simplest form. Use a model to support your response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1. 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2. 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8" name="Picture 3" descr="Screen Shot 2016-06-21 at 1.54.32 PM.png"/>
          <p:cNvPicPr/>
          <p:nvPr/>
        </p:nvPicPr>
        <p:blipFill>
          <a:blip r:embed="rId1"/>
          <a:stretch/>
        </p:blipFill>
        <p:spPr>
          <a:xfrm>
            <a:off x="1957320" y="3156120"/>
            <a:ext cx="936720" cy="8841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4" descr="Screen Shot 2016-06-21 at 1.54.42 PM.png"/>
          <p:cNvPicPr/>
          <p:nvPr/>
        </p:nvPicPr>
        <p:blipFill>
          <a:blip r:embed="rId2"/>
          <a:stretch/>
        </p:blipFill>
        <p:spPr>
          <a:xfrm>
            <a:off x="1957320" y="4570560"/>
            <a:ext cx="9367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Lesson 19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Use Euclid’s algorithm to find the greatest common factor of 45 and 75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Lesson 2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olve each division problem using a model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1. Henry bought 4 pies, which he plans to share with a group of his friends. If there is exactly enough to give each member of the group one-sixth of the pie, how many people are in the group?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2. Rachel finished       of the race in 6 hours. How long was the entire race?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2" name="Picture 3" descr="Screen Shot 2016-06-21 at 1.57.22 PM.png"/>
          <p:cNvPicPr/>
          <p:nvPr/>
        </p:nvPicPr>
        <p:blipFill>
          <a:blip r:embed="rId1"/>
          <a:stretch/>
        </p:blipFill>
        <p:spPr>
          <a:xfrm>
            <a:off x="4186080" y="4624560"/>
            <a:ext cx="30492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Lesson 3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ind the quotient. Draw a model to support your solution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1.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2.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5" name="Picture 3" descr="Screen Shot 2016-06-21 at 1.58.38 PM.png"/>
          <p:cNvPicPr/>
          <p:nvPr/>
        </p:nvPicPr>
        <p:blipFill>
          <a:blip r:embed="rId1"/>
          <a:stretch/>
        </p:blipFill>
        <p:spPr>
          <a:xfrm>
            <a:off x="1816200" y="2414520"/>
            <a:ext cx="1085760" cy="10098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4" descr="Screen Shot 2016-06-21 at 1.58.49 PM.png"/>
          <p:cNvPicPr/>
          <p:nvPr/>
        </p:nvPicPr>
        <p:blipFill>
          <a:blip r:embed="rId2"/>
          <a:stretch/>
        </p:blipFill>
        <p:spPr>
          <a:xfrm>
            <a:off x="1816200" y="3692520"/>
            <a:ext cx="1133280" cy="10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Lesson 4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alculate each quotient. If needed, draw a model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1.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2.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9" name="Picture 3" descr="Screen Shot 2016-06-21 at 2.02.41 PM.png"/>
          <p:cNvPicPr/>
          <p:nvPr/>
        </p:nvPicPr>
        <p:blipFill>
          <a:blip r:embed="rId1"/>
          <a:stretch/>
        </p:blipFill>
        <p:spPr>
          <a:xfrm>
            <a:off x="2127240" y="2467080"/>
            <a:ext cx="851040" cy="8031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4" descr="Screen Shot 2016-06-21 at 2.02.48 PM.png"/>
          <p:cNvPicPr/>
          <p:nvPr/>
        </p:nvPicPr>
        <p:blipFill>
          <a:blip r:embed="rId2"/>
          <a:stretch/>
        </p:blipFill>
        <p:spPr>
          <a:xfrm>
            <a:off x="2116080" y="3832200"/>
            <a:ext cx="86220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Lesson 5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955800" y="1231560"/>
            <a:ext cx="72324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rite a story problem using the measurement interpretation of division for the following: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3" name="Picture 3" descr="Screen Shot 2016-06-21 at 2.04.37 PM.png"/>
          <p:cNvPicPr/>
          <p:nvPr/>
        </p:nvPicPr>
        <p:blipFill>
          <a:blip r:embed="rId1"/>
          <a:stretch/>
        </p:blipFill>
        <p:spPr>
          <a:xfrm>
            <a:off x="3762360" y="2496960"/>
            <a:ext cx="1451160" cy="890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Screen Shot 2016-06-22 at 3.20.48 PM.png"/>
          <p:cNvPicPr/>
          <p:nvPr/>
        </p:nvPicPr>
        <p:blipFill>
          <a:blip r:embed="rId2"/>
          <a:stretch/>
        </p:blipFill>
        <p:spPr>
          <a:xfrm>
            <a:off x="1373040" y="3535200"/>
            <a:ext cx="641988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Lesson 6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rite a story problem using the partitive interpretation of division for the following: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7" name="Picture 3" descr="Screen Shot 2016-06-21 at 2.10.12 PM.png"/>
          <p:cNvPicPr/>
          <p:nvPr/>
        </p:nvPicPr>
        <p:blipFill>
          <a:blip r:embed="rId1"/>
          <a:stretch/>
        </p:blipFill>
        <p:spPr>
          <a:xfrm>
            <a:off x="1428840" y="2406600"/>
            <a:ext cx="1517400" cy="90972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4" descr="Screen Shot 2016-06-21 at 2.10.24 PM.png"/>
          <p:cNvPicPr/>
          <p:nvPr/>
        </p:nvPicPr>
        <p:blipFill>
          <a:blip r:embed="rId2"/>
          <a:stretch/>
        </p:blipFill>
        <p:spPr>
          <a:xfrm>
            <a:off x="274680" y="3894120"/>
            <a:ext cx="816588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Lesson 7 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93200" y="1076400"/>
            <a:ext cx="8396280" cy="550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1. Write the reciprocal of the following numbers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2. Rewrite this division expression as an equivalent multiplication expression:  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3. Solve Problem 2. Draw a model to support your solution.  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1" name="Picture 3" descr="Screen Shot 2016-06-21 at 2.15.10 PM.png"/>
          <p:cNvPicPr/>
          <p:nvPr/>
        </p:nvPicPr>
        <p:blipFill>
          <a:blip r:embed="rId1"/>
          <a:stretch/>
        </p:blipFill>
        <p:spPr>
          <a:xfrm>
            <a:off x="4397400" y="3903840"/>
            <a:ext cx="985680" cy="9680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" descr="Screen Shot 2016-06-21 at 2.16.02 PM.png"/>
          <p:cNvPicPr/>
          <p:nvPr/>
        </p:nvPicPr>
        <p:blipFill>
          <a:blip r:embed="rId2"/>
          <a:stretch/>
        </p:blipFill>
        <p:spPr>
          <a:xfrm>
            <a:off x="779400" y="1436760"/>
            <a:ext cx="7302600" cy="19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Lesson 8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955800" y="1076040"/>
            <a:ext cx="7232400" cy="55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alculate the quotient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5" name="Picture 3" descr="Screen Shot 2016-06-21 at 2.18.51 PM.png"/>
          <p:cNvPicPr/>
          <p:nvPr/>
        </p:nvPicPr>
        <p:blipFill>
          <a:blip r:embed="rId1"/>
          <a:stretch/>
        </p:blipFill>
        <p:spPr>
          <a:xfrm>
            <a:off x="1514520" y="1643040"/>
            <a:ext cx="148428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1T20:48:13Z</dcterms:created>
  <dc:creator>user</dc:creator>
  <dc:description/>
  <dc:language>en-US</dc:language>
  <cp:lastModifiedBy>m m</cp:lastModifiedBy>
  <dcterms:modified xsi:type="dcterms:W3CDTF">2016-06-22T22:21:36Z</dcterms:modified>
  <cp:revision>27</cp:revision>
  <dc:subject/>
  <dc:title>Module 2</dc:title>
</cp:coreProperties>
</file>